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459F-3D81-4D5E-BB6C-60D385202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F4BA-263B-4F4F-8352-7AAB88D3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273C3-09F5-4154-9ECA-AD1E8CE1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578D1-F338-4A89-B99B-123B3A6F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A57F48-45C3-4627-9B69-91B9B498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52C9B-928C-459D-BCCB-B940E534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CC6F2-4100-4942-93E8-A4A45F1A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61DC4-F03B-48BB-A19B-9F9BB278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38D45-964D-4B63-9F09-65F73452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978DC0-CE75-4461-AC52-D15CFC0A9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E3662-5C35-4F7B-A79F-B1F4F847D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7E059-9ED3-4361-A740-FDBC4361C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9C71-E14F-48D6-8363-921CBAB8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DFFB45-6426-49DD-B798-8E91AF60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D7EB2-BC85-4F7B-8155-DE241774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71670D-15EB-490A-8056-D8CA606F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85B72F-FBAB-4329-95E3-2E1A0B93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3E8BEE-209F-4A26-9854-13B0E8F8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AEC7A7-B212-4CEA-A9FF-0E8CE8B7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3996B-2533-4915-A5C6-12404584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35E60C-6BD2-42F2-A32C-FFE0191F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CC8CC-9DF8-4EF1-80A9-CBB6F31A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6FA07B-90C5-47F8-9A6D-D78320B1B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9314-BFFC-42EA-92CD-13484032B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F174CD-2C59-4B36-A5A6-998BAD3B7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C22A5-2301-4895-8CD0-5604C761F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FECB6-ACD3-413B-94F5-F4340C9D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AFD52-4066-44D2-9891-375BF9D0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C6B7D-79C0-4A43-B4C6-D3A99307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E1A76-CCF5-451D-A1C6-AB76FFCD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2A31C-C94F-42E7-89FA-D847A5C3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0C2FA-E270-44A7-9CDA-C50DD531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8A56F-CC83-4C41-9A52-85DA8BB7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2A3D0-AEBF-4C4D-BB6F-A6DD417F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868E-87DA-449A-A705-F080515C6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01B93-8FC9-45E5-9B92-EA0228F7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1DFAD-7231-4D1E-B4BB-9130542E2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EA9F3-6EBD-4CEA-987C-5EC800DD4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EE3FE2-FD55-47A0-A97B-9AC63F756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8D60F0-E484-45E8-B69B-5881A2AE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A45EA3-B05B-4D67-AE7B-ABD31F38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22F693-2BA4-485D-9299-EE51C22B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BAA2FE-62B5-4AC6-826A-72B23E8E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DF750B-B773-412A-A7D7-3E8AA9D8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CB22A6-C745-47C3-ACD0-C444008D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6EB7-2732-457A-9FED-D40FBA3C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962C2F-60DD-4790-B96A-5EDF3905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932ED8-DCA1-4692-B222-7AAB8418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A29144-EA27-4FB9-869C-DA3BD49D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1A3B2B-3243-4139-8B91-0CF660EF2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772ACF-8FC0-4756-AB7A-69DF52790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7F3E38-3963-4247-AD0A-D5D5AC45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27CA03-9CD2-4FAD-928A-E38FA9CD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D87D1F-F30A-441B-AF8C-C4B94494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3C70A6-AA10-448A-8EC6-CD78B97E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CF0FE1-4EF2-4FE2-B363-7D22CF77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BB53-4717-4BBD-B218-1EB25696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4ACB1A-5D05-4691-A303-EAF4B2D3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3E19B6-B082-4858-8D08-52CBBC9F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AD0B63-53B4-4B63-A937-7B24E110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28912D-3C36-482B-8935-7B13FB2F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80CF9B-F16A-42D1-8707-EA905EAC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8306D7-3088-4CB8-8C86-8EE54EFFD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C538A2-C3BE-4064-B3CF-5517391FF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AB3057-0AAC-4149-9629-DD6AFB0EC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19B948-F6F7-41AF-BE95-333B5816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556E27-1F76-41F6-AE10-C48B7EF8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6FD5-A42A-4150-A1F1-91AB9B75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2FE8F3-0D05-487F-9ED6-D1DA4924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AFA767-DD27-4068-9E7F-274BA4A9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B8B6EE-BCBA-4A30-A49F-72B64A63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EEA4BD-DC90-447B-B260-229C7BD4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B71258-A5BE-454D-813C-52E00743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496503-B7E6-448D-B2A3-0C2E4250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7D3B96-3B46-47A2-87DD-A87C0293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6FA118-D5F2-40BE-909A-ACCF6AAAB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A9C5F2-5878-4958-B4DD-91412E26C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0F6B8E-AEC4-416B-AD10-0A34D25FD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64B3-9DFF-46E8-8E02-5D59F09D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01D1FC-E7EC-4E27-AC2A-01387157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A06EBF-8ADF-421E-831A-8282B69A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C26453-FF56-4861-B6E3-2ED906EC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1D6F98-0D05-4B8D-A233-BF402826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996578-F862-4522-A838-300F0D67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D2DBBE-3799-48C5-840D-021F4BD9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C5DF56-E356-45FF-A322-131088AB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792678-EDC8-450B-B16F-3392E8BB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81C190-10F0-4BCE-A7F9-74C8AAF9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32B197-5514-4A72-A1E9-18C595AB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B87F-1B36-456D-978A-FCA5DD95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844CE7-8348-4BA7-B04F-1CC1B1FC6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0635FD-BF55-4473-8AAE-F0291A52E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2385BF-619F-41D9-BA29-3A790103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A169CD-35C6-4518-8FAD-0E6AE73C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52424F-390B-4F9C-AAA7-EAC16CDF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584B78-C5B4-44B9-B9C5-BD8AF393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A9CCD9-4EA1-4395-8E5C-B0AE28CC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575C5D-1F83-4CDB-8178-E1C70323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447465-B391-42EB-9BDE-36721794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8D4D68-194E-4751-8080-57F11D4D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C211-BD7D-41DF-9CC1-6A1E5A60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F53EA3-5EA8-409E-BBAF-0DC6E2A1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C6447E-A48C-4111-B060-E766FB44B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B2A7F0-C18A-4F72-96B7-E9722DF9C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33B22D-916F-4E70-91CE-8D49E7125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936ACE-E51E-4A36-875A-1F52A0A4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1B0188-E2A5-421C-8B38-895592C4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27EB44-768E-4AE2-ABD5-0966C188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B13A13-68DE-4EA7-AAC7-1D07074B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4CA7D9-FA72-46CE-AA2B-C31BFC5B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E0DC0F-EE35-4DAB-9363-B064F4EC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14C1-93ED-4895-A584-C508C6F7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917A-AA17-4452-A74E-A1874B31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A0EFDB-642D-4894-9D7F-48D06052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91B77D-7B52-4A2B-AB68-4496D319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B139F2-087E-47DB-83CA-48678E1A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69D60E-B71F-46FD-A515-19B3A99FD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3D755D-86AC-429C-9EFD-E5F9BB303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8C37C0-C94D-4BE5-BBB5-7F14AFC93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95C1CF-FA57-435C-9645-5AD8D29B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D0A4E2-F1A3-4460-A150-471D31B1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1FD8F0-587B-4841-8B85-6115D0C1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C16E41-E5BA-41DF-A6E3-BA381EA6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A438-AF9A-4FF8-9C72-C80F3F36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812780-B015-4A33-B29D-9C7BEB4F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9160D2-C6D9-4E7D-AEC5-1976AA7D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2ABFF2-3C68-41AD-87EB-C954C425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BAFE37-750A-4479-B737-8C230063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F83698-DAA4-48A5-8CF8-7302E269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C22092-914C-49D4-9385-6A97E6E70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DDF09B-D8A1-49D4-B67D-1B04CC2FD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E406EB-39EA-44F1-9758-61293ED0C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84517C-D0D6-4A01-AA91-6C84D5CD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063E11-C129-4D60-AEEB-0E869A7A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E7AA-0A78-4FCD-941E-D7F756AD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10BF7D-19AB-48FA-90FD-167BE687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E5D064-8859-458A-A42E-F59F2A1E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C20C15-0FD5-4E28-B681-5B1E2C4F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117905-CF7D-4BE0-B1FC-560C0605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0A2CDA-9F70-4A4C-96B1-6D5C8D0A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691552-19A6-4F69-8EA5-285DD255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DD49A9-3057-474B-8F38-750F7594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4DE24E-0EC4-4D68-8981-B9900F6C1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19FA46-1594-41A2-9412-79C7A08D0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847D7B-9C60-44DA-A379-B63324A33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367B-45EE-496A-9367-C3B7E81F2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9ABABE-49B3-4D8E-B85A-D8A2895B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4CFAB1-F9BA-4D03-A762-035A50D3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D8A9B4-C58A-45F8-9760-B77D389C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901DE7-AD09-4B8D-A9AA-4FD9548A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54A900-E2F6-45C9-B5DC-8E60ABD6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5ABF48-AE8D-4A06-87A6-6A4DC3D8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2A0DF0-A11D-4043-A2EA-06C2C460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54AE22-DC10-4343-B659-5FC63350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C2908B-E66D-44AA-B1D8-EF4A62F4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61582B-FC7E-4818-9362-FEFC20223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4316-CD2D-426F-8522-1698CCBA3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FE603C-0244-4524-B90C-E63AB6F3A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487DAD-A529-40DE-A972-BFF8BE11C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6B122E-0B6F-44C5-A3A1-83AF716B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65FB66-2BFE-4534-9489-727049FB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BE39A8-D445-4C8B-BB7A-277D38A6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6C8805-BCA3-46A5-849F-84B199B9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0C063E-B7D5-4997-8387-8FF33AD2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09E968-2580-49A8-8978-ADFE9E3A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ED4CC1-7EB6-4304-962D-820F5E56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2F463B-F2B9-4CF3-9689-6603E02B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EB809-4DF3-4E43-A91A-CFC7C5C30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E4B9C9-E4B7-4AC5-BEB3-9E72EDDB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47CDDC-250C-4664-B58F-323B81E12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701730-59C5-41C8-A10D-3EAF09AA2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AA9164-9B3B-4839-B314-ABBDE42DD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8CA0D4-F08F-4E9A-B098-CA664C1C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D389F9-0694-4CB2-BB30-DC7F01F0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5955A4-135D-4006-B347-3A12CEEC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90D250-A5A8-4CA4-8F34-9C333A35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023FF5-9448-43EC-AD0D-CBFED808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F27F16-55C1-41D3-9953-9CD124C3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81B36-1ECA-47E6-80E2-C58560C9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60B27E-A129-4F8B-AA4C-9A92D133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0B85D9-48F9-413C-B2A9-ABF7996F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43C0EB-C644-43F2-A3BB-E926C088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5A06E3-EFEF-4E73-BEA6-444A8E8D6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46FFCC-B1F4-4892-B264-7DC6BEA3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5F33CF-2858-4F0D-BEB9-E625ED5F9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0598B0-EEDF-405F-A4C9-322EF6CA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37773D-1CD6-4535-9A48-793600E8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7DF6C3-E649-4BB0-A779-0AF262DC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F27627-BE9A-4B45-A883-88EC9A02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2A221-2787-4504-977E-53407657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A84135-C783-40A9-8A8B-2294C863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18C19B-78C9-4237-B7FA-332BCEF6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53071F-CEC8-495B-AB61-457B339A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C37EDA-BD50-4ADB-99E1-29DFA05C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508B0C-2426-4D58-A9C2-41E5AB8B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6BB62D-8C26-41AA-8669-B8F95183F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4CE1DC-85B9-4AA7-819F-ABB34F172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CFD20E-8380-4308-BE8F-9D7FA5BB5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2BE0EC-5A52-423B-91E2-80F3F5AC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39429F-B074-4806-906B-6CDF6E8B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7C908-7AFA-4DDB-818C-8C7749CA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53868C-9882-4FD4-97EB-C6C1F58A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C155CA-A306-44BF-9A7E-E84D6949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6A90F2-22D2-497C-A10E-3098D957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249898-A48A-4148-9179-B0B4CB5C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F3FC41-A7CF-416D-863A-9481FC82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1BE9C8-64A5-4EFD-A79D-619ED714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AB1BE4-3CC3-4B5E-9745-FF64B5E3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5EDEAF-6D5B-4009-87BF-29422E613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3068FC-51CD-4547-8B09-E0DF72790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F214633-0E44-42C0-8C79-0B18FDAA8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FDD59-BBD7-4984-A69D-95A3D437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561150E-D14E-4C29-A4A4-4A19ACFB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C71CAB4-47C8-4ED4-A38C-EC558FB1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2975EA-00AC-4EE6-BEFF-B2DA1641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87703B8-E3FC-4097-B701-AF46A97C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DD230A1-49E5-472B-8456-1994890A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803B8F7-6A4B-479B-84A0-E780113E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4EFC795-2EAA-432F-88F0-559069A0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4D69F2A-2822-49FE-9BFD-DED4C5D5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E8852A-DB17-4FB9-B73C-370B7C9F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B766C1F-157A-442A-BDDB-E30742A8E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29C9-4113-44C4-B10E-37FF303D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AF236-FF4A-44DB-8EE9-1E57E06C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376D45-5383-4819-B6A0-C6E4F950C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4DC0EAD-EBCF-4A22-8CA9-72FFA1E5D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FBDB33D-5674-4DB0-AFE5-93DE46E8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84C6078-993A-429B-8F31-ADA0EF2B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59C1E3-D0A2-45A3-AC66-2360517B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15AF2D5-4D41-4808-AA0B-E3656EB5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1C42EC-9ED5-4CF0-AD78-0B0C8819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833CFC-A268-4DE1-9392-B1573F5A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AF6A29B-239D-4E9A-86C7-11B30041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F7F80B-09CC-4F7D-BEF9-8A35D213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4E7F3-C6A9-4740-9A9D-77920259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B90BA18-F27B-4C54-A1AD-374619C9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E4BC426-3588-4A57-873E-83ADFC05C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952865-7FFE-4AED-A0C9-AB908BC20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8FEA25B-667C-456D-95A5-0F6F50C2B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72BD9E3-C506-498D-B464-7512B3BA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FCDBB15-3ED4-42DF-822D-F066A5B0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723F429-9319-472D-8455-5A0F3EC8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721963E-2500-4A8C-8168-4B7B634B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A46AF10-80D7-40D9-A7AE-5F5911E4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5EB0A94-A42E-4E04-8A15-25225D09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8CBAF-3B89-4FE9-A440-C4A9B95E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8AC0304-8762-4B92-84A4-643E445D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69C0482-D48E-4530-B073-647DD41E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1B17D36-DDEB-4185-B001-549B3B79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2708F0F-48D4-48F5-A863-324D4A38C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C179A90-09AF-4141-B787-68345D5BD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735656E-D878-4901-8481-8C66B3667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0CDF815-6A3A-40B3-8F1D-5A80F43E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FF78D03-B874-445D-AC91-6D1C9877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59C80A4-D6A2-4A38-9DF1-08D86BC5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7D2AD41-3259-4C69-B9FC-84A63BDC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02C5B-85A8-4F06-A6FF-8C11D4BB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521418F-4F60-4D80-82BE-613F9295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76922DB-2F5C-4EA0-BB6A-56A6DD1F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FD9648F-FEE4-4329-9D73-C0EA5148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97FA28F-927F-42E4-8D69-1EC708EE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184A6A2-1F15-4B7F-BAF9-97EDE741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8FCF7AF-FCCC-49C6-96E6-D04224E1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936D202-4FFB-4C36-A5DB-A5D04B5D2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3144E34-358F-4D38-B476-3AB25161C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20B3ED0-794E-4ECD-A30F-5D1EDFCD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525A654-4733-4AFF-8CFE-05283624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7F4E9-CC0A-4DD3-9C5F-F234A1BB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FBC7B1C-CC3A-43A3-A9DD-12AEE297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F32020B-A035-442C-99FC-F88F473D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699C34D-B828-4A8F-90AD-E43A41B0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7FA748A-B958-478A-8ACF-FBDA85D5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0884174-109C-4E66-AD72-64F34BBB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8A0D3BE-F9D2-41BE-AEB6-86600360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AF7B321-217B-4E3A-AAA4-A1875E22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0EC4493-1162-4B14-8123-FE38B28A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B5ED6C7-A178-45AC-B740-42532A669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3924967-674B-4FF4-BDBF-F7CC69347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A2F66-FD68-4FC2-9C67-40CD284DA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AE09A40-74E9-4537-B101-4078B850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8881D94-002E-45B8-A009-B5B54D64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1E854BD-D8E6-436F-87D4-FDFCFCE2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7EBD27A-F889-46AD-94EC-EAA5F6E1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232160F-E117-4189-8753-95E63A0A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DB8BC14-0913-4379-84DF-7D58AED1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351F213-777D-4B2F-98C6-1DF63594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008FD47-8EDF-4C68-8624-6FCD7105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5F7FB90-2832-4ABD-A99A-D284D00E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0F644E1-DBA2-4FDE-B262-C44015788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A66AA-E2DC-4831-ACD1-2D1A0313E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F15012C-BBD6-43D2-B090-4A7BCC349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7075226-1706-4C21-AED6-7CEC20E1A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C76CDB1-CB09-45C3-90E0-AC61167A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8DFD4A3-C42A-49DC-A8CE-1FD49875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B6CAAA2-7E88-46C0-83FF-411CCBEB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E994C90-C63A-4E18-8664-FD69E72C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8A8582A-6BA6-4704-8CE1-99B0E959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1A86F5E-890D-416D-8844-621B2132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8C2DBCF-091E-4F1F-8476-1866C4B7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00F7577-3DA7-4620-AE0E-8962AE82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BBBDB-79E8-4B47-B0E2-094499159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4FE737B-67FA-47FB-B0AD-7F6281A3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71196A7-938D-43CD-BF95-079D7905D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50853C1-70F1-46F6-B4EF-5C1EFE3D6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C6D17-D9E5-4335-BA13-7A63AF8B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C093B-BCEF-4D5C-BCA8-AD39CB47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B334-AA52-48F8-82AF-C22DB1E6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34179-337C-4783-9E63-A6A168BF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1A92B-9E99-4A24-B50F-41E55215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AB973-35A7-4C55-961D-01C50CEC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4DA36-D626-4715-9DCC-00831CC8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BBDDB-576D-4975-BEC1-F130C131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471FE-A14F-4BA7-A77D-52531DB8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7C5CF-F15F-4805-BA4A-731F94E0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22AB2-C1A8-4A3F-B5FE-1DEDDC129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4F6C0-C94F-42EF-A5C6-797B777AE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A050C-513C-4D63-AD57-AE2A84B3F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C04F-7A32-49FC-AF3F-38059EB8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4AD28-4613-42CA-A0B6-6FDD6468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06A6F-E3FF-470C-8977-2E98DADB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C83F7-44BF-452B-97FF-41FE41DA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759D9-D835-447C-8287-532AA386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1234E-33EB-44B2-8513-E951525B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ACC4B-C27E-4728-8C7E-AE4FA3CE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EC467-0C93-49EB-8394-C8B3B71D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74BD5-81E2-4592-8A84-AB3FCCC1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394C5-F907-4BD6-B8C5-00416E13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1299F-9FD1-4A56-A0EC-1163541CE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55C2-DDA5-4FD8-94D6-45E190F1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3F608-57B7-4257-9A16-FCCF6C7A3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9BF7E-E35C-4A1F-90E7-40F959464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B3F15-B784-43FA-BDA8-CBBAB790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D2509-28D3-4605-BAA1-CF5ADFBF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5B605-CABB-4A9E-B8F1-BCC2B389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44427-EE9B-4366-9E5A-6A66E1C4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524CE-E418-4129-B899-51D300E6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C9049-BD95-4529-9BB8-0925B743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041F7-72FC-4A28-A09D-9411D5A3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927BE-B928-4941-96AE-29EB376A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28D2-95F9-462B-9176-F7C482F1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6CC52-3E15-4917-B322-B8F23F6B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BCD60-38CF-400F-914D-CC165E912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F056F-DD50-43E2-9A93-713BE1078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1AA56-3409-46B6-BB5F-B3BEE77C0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C9AE6-8830-4E3C-9B68-779EEDF4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867E1-00EA-443F-A514-6686942A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D5095-0292-4490-BFF8-6F2EE0C7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C7568-2A9B-4721-ADF7-95EB238A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24CAA-0F24-464D-A28F-E5500F4F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03402-BD07-432E-BF11-7A684A8A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561E-84ED-4304-88E9-08912A95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16C68-235F-42A8-B5DD-FD12BAEB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077EB-CA92-404C-8A02-084B0262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3D19A-08C6-42DF-82C2-E6C5C947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182B4-C4E3-41FD-B91F-08815F113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80BA0-B1E9-4A40-8666-0EB14B3AE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FD20A-39F5-4B5D-81AF-503BEA3F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90E77-819F-42EB-812B-032F5EE9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D6B3A-2367-4B6D-96B7-BE35893F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51BBA-062E-4F77-92A3-8668E11E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3A32C-08E8-4E58-BB84-ABC26CC1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F3AC-25CE-4A16-9C52-722F2D68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ECC12-E7CD-4AC8-9EBA-DCD77DAF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A9EBF-7073-4F5F-969B-D6F436E9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2C591-DC13-4526-AB91-C751FA6C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AD483-3BB1-48DF-835F-FC54DEED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A8DA7-92CA-4578-92CF-00387613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1623F-73D6-4C95-90B6-A7F269845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ED89A-8695-494B-9C6D-2457EADC2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892D87-0D53-418F-8764-A08B91F7D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B8A12-8EE8-459B-9272-EE44867C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7804D-95B2-468D-A27F-96B72ACE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C3CE-DF63-4745-811C-99EA0C8A00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D9B1-F3F0-482E-8029-C86B806E13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A2A7-3A55-43B6-A007-AE0871CB7D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062F-A651-4036-AF90-E937F5BD60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1DB7-F171-4B7F-8954-AA37F4C0C8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0A78-C7CA-4D42-B91A-7A5A9996B7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13B1-5DC5-4E33-8AB0-6B516E45ED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64CD-4E84-4F68-94A1-E0D1426CD2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C5AD-A4E9-484E-BDC6-D695BCF43F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2F3D-2F22-4861-9FB8-473956D77E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0898-7335-4CEF-91DD-F7D53E3AE2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B956-B6A2-4CC0-ADB6-C483ED6F08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2C0D-37B7-4EDD-BE90-4BAC6830A4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F915-2849-4429-BF4A-A45E5BB776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1688-3818-4E5A-90C9-CE8B3400ED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AD10-E7D6-428B-8FA4-69956EE0F4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B255-1FD5-41C1-9505-C3E8FB67FB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CC24-BBF9-4B5D-B5E5-60BAE92E2C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B9E9-429E-437B-9F01-1F4F8B1C2B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AC54-54F5-4558-BA52-705E722AE0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3D58-3E70-40F9-947F-DCA30C633D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63FE-3E4A-47E2-8660-CA4091C92E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A4C0-6EFD-45FF-BAC9-4754D2FD50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F8FB-B807-44D0-AC9D-CA0DAD53C3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72BF-C2AB-4025-8335-186DA3FDEE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2EBC-ABC2-4728-ABAC-562D373F84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D26A-793F-43C5-93DF-E3933740F4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4686-5660-454E-8D3A-61D7248755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1709-E61A-4026-A2DB-34D3549167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6FE0-2B68-40F9-A42E-7982DA58ED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E8EB-5BC1-46C0-B000-5ECB9BD5EA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980F-8A5D-4C71-A463-D8405E2DF0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FD56-C84B-4147-8BA2-D7EBE0B86D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8138-D34F-453E-9550-6E0E1DB576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7BA7-C7DB-4CE0-9E46-6E74DEBC5E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ED9B-1C39-4797-A620-1380995A72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2398-9F07-4671-BC94-BAF173FAE9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949E-2C75-4C6C-AE64-08782711CE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F85F-7F4A-4CA4-8693-2EC421B8B0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AAEF-6C3D-4AD5-9D1E-2D6F06A386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458A-DF43-4FDA-AEFF-03C392A8D2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8E5B-3381-4006-B54B-012F339A8A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4303-C780-4D64-BA7A-71D93B2E0E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DFD9-363F-4958-B92C-BA738CF47B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B3F5-235A-4509-98CB-54D785D4A0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0C31-EC5B-4B43-A5C6-679AFFF3E0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6F87-9134-418E-93F1-1AABB42256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CA64-D49C-40CD-8CF7-536C889A65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862C-E35A-4305-9BC3-A6490DD531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1617-AB2A-4FE5-BF1A-1A8D9F7E45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78" descr=""/>
          <p:cNvPicPr/>
          <p:nvPr/>
        </p:nvPicPr>
        <p:blipFill>
          <a:blip r:embed="rId1"/>
          <a:stretch/>
        </p:blipFill>
        <p:spPr>
          <a:xfrm>
            <a:off x="90360" y="3029040"/>
            <a:ext cx="896328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8" name="图片 69633" descr=""/>
          <p:cNvPicPr/>
          <p:nvPr/>
        </p:nvPicPr>
        <p:blipFill>
          <a:blip r:embed="rId1"/>
          <a:stretch/>
        </p:blipFill>
        <p:spPr>
          <a:xfrm>
            <a:off x="314280" y="1125360"/>
            <a:ext cx="8515440" cy="1971720"/>
          </a:xfrm>
          <a:prstGeom prst="rect">
            <a:avLst/>
          </a:prstGeom>
          <a:ln w="0">
            <a:noFill/>
          </a:ln>
        </p:spPr>
      </p:pic>
      <p:pic>
        <p:nvPicPr>
          <p:cNvPr id="1459" name="图片 69634" descr=""/>
          <p:cNvPicPr/>
          <p:nvPr/>
        </p:nvPicPr>
        <p:blipFill>
          <a:blip r:embed="rId2"/>
          <a:stretch/>
        </p:blipFill>
        <p:spPr>
          <a:xfrm>
            <a:off x="2987640" y="3284640"/>
            <a:ext cx="3210120" cy="3076560"/>
          </a:xfrm>
          <a:prstGeom prst="rect">
            <a:avLst/>
          </a:prstGeom>
          <a:ln w="0">
            <a:noFill/>
          </a:ln>
        </p:spPr>
      </p:pic>
      <p:pic>
        <p:nvPicPr>
          <p:cNvPr id="1460" name="Picture 1" descr=""/>
          <p:cNvPicPr/>
          <p:nvPr/>
        </p:nvPicPr>
        <p:blipFill>
          <a:blip r:embed="rId3"/>
          <a:stretch/>
        </p:blipFill>
        <p:spPr>
          <a:xfrm>
            <a:off x="7236000" y="1009800"/>
            <a:ext cx="936360" cy="476280"/>
          </a:xfrm>
          <a:prstGeom prst="rect">
            <a:avLst/>
          </a:prstGeom>
          <a:ln w="0">
            <a:noFill/>
          </a:ln>
        </p:spPr>
      </p:pic>
      <p:pic>
        <p:nvPicPr>
          <p:cNvPr id="1461" name="Picture 1" descr=""/>
          <p:cNvPicPr/>
          <p:nvPr/>
        </p:nvPicPr>
        <p:blipFill>
          <a:blip r:embed="rId4"/>
          <a:stretch/>
        </p:blipFill>
        <p:spPr>
          <a:xfrm>
            <a:off x="250920" y="1585800"/>
            <a:ext cx="8642160" cy="1555920"/>
          </a:xfrm>
          <a:prstGeom prst="rect">
            <a:avLst/>
          </a:prstGeom>
          <a:ln w="0">
            <a:noFill/>
          </a:ln>
        </p:spPr>
      </p:pic>
      <p:pic>
        <p:nvPicPr>
          <p:cNvPr id="1462" name="图片 69637" descr=""/>
          <p:cNvPicPr/>
          <p:nvPr/>
        </p:nvPicPr>
        <p:blipFill>
          <a:blip r:embed="rId5"/>
          <a:stretch/>
        </p:blipFill>
        <p:spPr>
          <a:xfrm>
            <a:off x="3062160" y="3371760"/>
            <a:ext cx="290520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图片 68609" descr=""/>
          <p:cNvPicPr/>
          <p:nvPr/>
        </p:nvPicPr>
        <p:blipFill>
          <a:blip r:embed="rId1"/>
          <a:stretch/>
        </p:blipFill>
        <p:spPr>
          <a:xfrm>
            <a:off x="2843280" y="2852640"/>
            <a:ext cx="3238560" cy="3333960"/>
          </a:xfrm>
          <a:prstGeom prst="rect">
            <a:avLst/>
          </a:prstGeom>
          <a:ln w="0">
            <a:noFill/>
          </a:ln>
        </p:spPr>
      </p:pic>
      <p:pic>
        <p:nvPicPr>
          <p:cNvPr id="1464" name="图片 68610" descr=""/>
          <p:cNvPicPr/>
          <p:nvPr/>
        </p:nvPicPr>
        <p:blipFill>
          <a:blip r:embed="rId2"/>
          <a:stretch/>
        </p:blipFill>
        <p:spPr>
          <a:xfrm>
            <a:off x="228600" y="1036800"/>
            <a:ext cx="8591400" cy="160020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1" descr=""/>
          <p:cNvPicPr/>
          <p:nvPr/>
        </p:nvPicPr>
        <p:blipFill>
          <a:blip r:embed="rId3"/>
          <a:stretch/>
        </p:blipFill>
        <p:spPr>
          <a:xfrm>
            <a:off x="3851280" y="2089080"/>
            <a:ext cx="9367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6" name="图片 67585" descr=""/>
          <p:cNvPicPr/>
          <p:nvPr/>
        </p:nvPicPr>
        <p:blipFill>
          <a:blip r:embed="rId1"/>
          <a:stretch/>
        </p:blipFill>
        <p:spPr>
          <a:xfrm>
            <a:off x="262080" y="1511280"/>
            <a:ext cx="8619840" cy="981000"/>
          </a:xfrm>
          <a:prstGeom prst="rect">
            <a:avLst/>
          </a:prstGeom>
          <a:ln w="0">
            <a:noFill/>
          </a:ln>
        </p:spPr>
      </p:pic>
      <p:pic>
        <p:nvPicPr>
          <p:cNvPr id="1467" name="图片 67586" descr=""/>
          <p:cNvPicPr/>
          <p:nvPr/>
        </p:nvPicPr>
        <p:blipFill>
          <a:blip r:embed="rId2"/>
          <a:stretch/>
        </p:blipFill>
        <p:spPr>
          <a:xfrm>
            <a:off x="911160" y="2678040"/>
            <a:ext cx="7981920" cy="219096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1" descr=""/>
          <p:cNvPicPr/>
          <p:nvPr/>
        </p:nvPicPr>
        <p:blipFill>
          <a:blip r:embed="rId3"/>
          <a:stretch/>
        </p:blipFill>
        <p:spPr>
          <a:xfrm>
            <a:off x="900000" y="3213000"/>
            <a:ext cx="4824360" cy="47628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1" descr=""/>
          <p:cNvPicPr/>
          <p:nvPr/>
        </p:nvPicPr>
        <p:blipFill>
          <a:blip r:embed="rId4"/>
          <a:stretch/>
        </p:blipFill>
        <p:spPr>
          <a:xfrm>
            <a:off x="826920" y="3789360"/>
            <a:ext cx="3097440" cy="47628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1" descr=""/>
          <p:cNvPicPr/>
          <p:nvPr/>
        </p:nvPicPr>
        <p:blipFill>
          <a:blip r:embed="rId5"/>
          <a:stretch/>
        </p:blipFill>
        <p:spPr>
          <a:xfrm>
            <a:off x="5796000" y="3227400"/>
            <a:ext cx="3024000" cy="47628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1" descr=""/>
          <p:cNvPicPr/>
          <p:nvPr/>
        </p:nvPicPr>
        <p:blipFill>
          <a:blip r:embed="rId6"/>
          <a:stretch/>
        </p:blipFill>
        <p:spPr>
          <a:xfrm>
            <a:off x="3952800" y="3759120"/>
            <a:ext cx="5011920" cy="47628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1" descr=""/>
          <p:cNvPicPr/>
          <p:nvPr/>
        </p:nvPicPr>
        <p:blipFill>
          <a:blip r:embed="rId7"/>
          <a:stretch/>
        </p:blipFill>
        <p:spPr>
          <a:xfrm>
            <a:off x="755640" y="4365720"/>
            <a:ext cx="30970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3" name="图片 66561" descr=""/>
          <p:cNvPicPr/>
          <p:nvPr/>
        </p:nvPicPr>
        <p:blipFill>
          <a:blip r:embed="rId1"/>
          <a:stretch/>
        </p:blipFill>
        <p:spPr>
          <a:xfrm>
            <a:off x="266760" y="1762200"/>
            <a:ext cx="86104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4" name="图片 65537" descr=""/>
          <p:cNvPicPr/>
          <p:nvPr/>
        </p:nvPicPr>
        <p:blipFill>
          <a:blip r:embed="rId1"/>
          <a:stretch/>
        </p:blipFill>
        <p:spPr>
          <a:xfrm>
            <a:off x="790560" y="1128600"/>
            <a:ext cx="7562880" cy="460080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" descr=""/>
          <p:cNvPicPr/>
          <p:nvPr/>
        </p:nvPicPr>
        <p:blipFill>
          <a:blip r:embed="rId2"/>
          <a:stretch/>
        </p:blipFill>
        <p:spPr>
          <a:xfrm>
            <a:off x="826920" y="1125360"/>
            <a:ext cx="7274160" cy="47628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1" descr=""/>
          <p:cNvPicPr/>
          <p:nvPr/>
        </p:nvPicPr>
        <p:blipFill>
          <a:blip r:embed="rId3"/>
          <a:stretch/>
        </p:blipFill>
        <p:spPr>
          <a:xfrm>
            <a:off x="755640" y="1700280"/>
            <a:ext cx="7273800" cy="47628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1" descr=""/>
          <p:cNvPicPr/>
          <p:nvPr/>
        </p:nvPicPr>
        <p:blipFill>
          <a:blip r:embed="rId4"/>
          <a:stretch/>
        </p:blipFill>
        <p:spPr>
          <a:xfrm>
            <a:off x="611280" y="2278080"/>
            <a:ext cx="7273800" cy="476280"/>
          </a:xfrm>
          <a:prstGeom prst="rect">
            <a:avLst/>
          </a:prstGeom>
          <a:ln w="0">
            <a:noFill/>
          </a:ln>
        </p:spPr>
      </p:pic>
      <p:pic>
        <p:nvPicPr>
          <p:cNvPr id="1478" name="Picture 1" descr=""/>
          <p:cNvPicPr/>
          <p:nvPr/>
        </p:nvPicPr>
        <p:blipFill>
          <a:blip r:embed="rId5"/>
          <a:stretch/>
        </p:blipFill>
        <p:spPr>
          <a:xfrm>
            <a:off x="539640" y="2852640"/>
            <a:ext cx="7274160" cy="47628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1" descr=""/>
          <p:cNvPicPr/>
          <p:nvPr/>
        </p:nvPicPr>
        <p:blipFill>
          <a:blip r:embed="rId6"/>
          <a:stretch/>
        </p:blipFill>
        <p:spPr>
          <a:xfrm>
            <a:off x="466560" y="3387600"/>
            <a:ext cx="7274160" cy="47628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1" descr=""/>
          <p:cNvPicPr/>
          <p:nvPr/>
        </p:nvPicPr>
        <p:blipFill>
          <a:blip r:embed="rId7"/>
          <a:stretch/>
        </p:blipFill>
        <p:spPr>
          <a:xfrm>
            <a:off x="395280" y="3962520"/>
            <a:ext cx="7273800" cy="47628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1" descr=""/>
          <p:cNvPicPr/>
          <p:nvPr/>
        </p:nvPicPr>
        <p:blipFill>
          <a:blip r:embed="rId8"/>
          <a:stretch/>
        </p:blipFill>
        <p:spPr>
          <a:xfrm>
            <a:off x="466560" y="4583160"/>
            <a:ext cx="7274160" cy="47628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1" descr=""/>
          <p:cNvPicPr/>
          <p:nvPr/>
        </p:nvPicPr>
        <p:blipFill>
          <a:blip r:embed="rId9"/>
          <a:stretch/>
        </p:blipFill>
        <p:spPr>
          <a:xfrm>
            <a:off x="395280" y="5157720"/>
            <a:ext cx="72738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图片 64513" descr=""/>
          <p:cNvPicPr/>
          <p:nvPr/>
        </p:nvPicPr>
        <p:blipFill>
          <a:blip r:embed="rId1"/>
          <a:stretch/>
        </p:blipFill>
        <p:spPr>
          <a:xfrm>
            <a:off x="247680" y="1200240"/>
            <a:ext cx="8648640" cy="445752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1" descr=""/>
          <p:cNvPicPr/>
          <p:nvPr/>
        </p:nvPicPr>
        <p:blipFill>
          <a:blip r:embed="rId2"/>
          <a:stretch/>
        </p:blipFill>
        <p:spPr>
          <a:xfrm>
            <a:off x="755640" y="3500280"/>
            <a:ext cx="4896000" cy="47628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1" descr=""/>
          <p:cNvPicPr/>
          <p:nvPr/>
        </p:nvPicPr>
        <p:blipFill>
          <a:blip r:embed="rId3"/>
          <a:stretch/>
        </p:blipFill>
        <p:spPr>
          <a:xfrm>
            <a:off x="611280" y="4076640"/>
            <a:ext cx="4895640" cy="47628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1" descr=""/>
          <p:cNvPicPr/>
          <p:nvPr/>
        </p:nvPicPr>
        <p:blipFill>
          <a:blip r:embed="rId4"/>
          <a:stretch/>
        </p:blipFill>
        <p:spPr>
          <a:xfrm>
            <a:off x="826920" y="4653000"/>
            <a:ext cx="4896000" cy="476280"/>
          </a:xfrm>
          <a:prstGeom prst="rect">
            <a:avLst/>
          </a:prstGeom>
          <a:ln w="0">
            <a:noFill/>
          </a:ln>
        </p:spPr>
      </p:pic>
      <p:pic>
        <p:nvPicPr>
          <p:cNvPr id="1487" name="Picture 1" descr=""/>
          <p:cNvPicPr/>
          <p:nvPr/>
        </p:nvPicPr>
        <p:blipFill>
          <a:blip r:embed="rId5"/>
          <a:stretch/>
        </p:blipFill>
        <p:spPr>
          <a:xfrm>
            <a:off x="611280" y="5229360"/>
            <a:ext cx="489564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8" name="组合 63491"/>
          <p:cNvGrpSpPr/>
          <p:nvPr/>
        </p:nvGrpSpPr>
        <p:grpSpPr>
          <a:xfrm>
            <a:off x="826920" y="1484280"/>
            <a:ext cx="6319800" cy="3668760"/>
            <a:chOff x="826920" y="1484280"/>
            <a:chExt cx="6319800" cy="3668760"/>
          </a:xfrm>
        </p:grpSpPr>
        <p:pic>
          <p:nvPicPr>
            <p:cNvPr id="1489" name="图片 63489" descr=""/>
            <p:cNvPicPr/>
            <p:nvPr/>
          </p:nvPicPr>
          <p:blipFill>
            <a:blip r:embed="rId1"/>
            <a:stretch/>
          </p:blipFill>
          <p:spPr>
            <a:xfrm>
              <a:off x="826920" y="1704960"/>
              <a:ext cx="6248160" cy="34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0" name="图片 63490" descr=""/>
            <p:cNvPicPr/>
            <p:nvPr/>
          </p:nvPicPr>
          <p:blipFill>
            <a:blip r:embed="rId2"/>
            <a:stretch/>
          </p:blipFill>
          <p:spPr>
            <a:xfrm>
              <a:off x="6327360" y="1484280"/>
              <a:ext cx="819360" cy="590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91" name="Picture 1" descr=""/>
          <p:cNvPicPr/>
          <p:nvPr/>
        </p:nvPicPr>
        <p:blipFill>
          <a:blip r:embed="rId3"/>
          <a:stretch/>
        </p:blipFill>
        <p:spPr>
          <a:xfrm>
            <a:off x="755640" y="1657440"/>
            <a:ext cx="5329080" cy="476280"/>
          </a:xfrm>
          <a:prstGeom prst="rect">
            <a:avLst/>
          </a:prstGeom>
          <a:ln w="0">
            <a:noFill/>
          </a:ln>
        </p:spPr>
      </p:pic>
      <p:pic>
        <p:nvPicPr>
          <p:cNvPr id="1492" name="Picture 1" descr=""/>
          <p:cNvPicPr/>
          <p:nvPr/>
        </p:nvPicPr>
        <p:blipFill>
          <a:blip r:embed="rId4"/>
          <a:stretch/>
        </p:blipFill>
        <p:spPr>
          <a:xfrm>
            <a:off x="611280" y="2276640"/>
            <a:ext cx="5329080" cy="475920"/>
          </a:xfrm>
          <a:prstGeom prst="rect">
            <a:avLst/>
          </a:prstGeom>
          <a:ln w="0">
            <a:noFill/>
          </a:ln>
        </p:spPr>
      </p:pic>
      <p:pic>
        <p:nvPicPr>
          <p:cNvPr id="1493" name="Picture 1" descr=""/>
          <p:cNvPicPr/>
          <p:nvPr/>
        </p:nvPicPr>
        <p:blipFill>
          <a:blip r:embed="rId5"/>
          <a:stretch/>
        </p:blipFill>
        <p:spPr>
          <a:xfrm>
            <a:off x="755640" y="2924280"/>
            <a:ext cx="5329080" cy="476280"/>
          </a:xfrm>
          <a:prstGeom prst="rect">
            <a:avLst/>
          </a:prstGeom>
          <a:ln w="0">
            <a:noFill/>
          </a:ln>
        </p:spPr>
      </p:pic>
      <p:pic>
        <p:nvPicPr>
          <p:cNvPr id="1494" name="Picture 1" descr=""/>
          <p:cNvPicPr/>
          <p:nvPr/>
        </p:nvPicPr>
        <p:blipFill>
          <a:blip r:embed="rId6"/>
          <a:stretch/>
        </p:blipFill>
        <p:spPr>
          <a:xfrm>
            <a:off x="611280" y="3429000"/>
            <a:ext cx="6840360" cy="476280"/>
          </a:xfrm>
          <a:prstGeom prst="rect">
            <a:avLst/>
          </a:prstGeom>
          <a:ln w="0">
            <a:noFill/>
          </a:ln>
        </p:spPr>
      </p:pic>
      <p:pic>
        <p:nvPicPr>
          <p:cNvPr id="1495" name="Picture 1" descr=""/>
          <p:cNvPicPr/>
          <p:nvPr/>
        </p:nvPicPr>
        <p:blipFill>
          <a:blip r:embed="rId7"/>
          <a:stretch/>
        </p:blipFill>
        <p:spPr>
          <a:xfrm>
            <a:off x="539640" y="4005360"/>
            <a:ext cx="6840720" cy="476280"/>
          </a:xfrm>
          <a:prstGeom prst="rect">
            <a:avLst/>
          </a:prstGeom>
          <a:ln w="0">
            <a:noFill/>
          </a:ln>
        </p:spPr>
      </p:pic>
      <p:pic>
        <p:nvPicPr>
          <p:cNvPr id="1496" name="Picture 1" descr=""/>
          <p:cNvPicPr/>
          <p:nvPr/>
        </p:nvPicPr>
        <p:blipFill>
          <a:blip r:embed="rId8"/>
          <a:stretch/>
        </p:blipFill>
        <p:spPr>
          <a:xfrm>
            <a:off x="539640" y="4581360"/>
            <a:ext cx="68407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7" name="组合 62467"/>
          <p:cNvGrpSpPr/>
          <p:nvPr/>
        </p:nvGrpSpPr>
        <p:grpSpPr>
          <a:xfrm>
            <a:off x="250920" y="1468440"/>
            <a:ext cx="8543880" cy="3328920"/>
            <a:chOff x="250920" y="1468440"/>
            <a:chExt cx="8543880" cy="3328920"/>
          </a:xfrm>
        </p:grpSpPr>
        <p:pic>
          <p:nvPicPr>
            <p:cNvPr id="1498" name="图片 62465" descr=""/>
            <p:cNvPicPr/>
            <p:nvPr/>
          </p:nvPicPr>
          <p:blipFill>
            <a:blip r:embed="rId1"/>
            <a:stretch/>
          </p:blipFill>
          <p:spPr>
            <a:xfrm>
              <a:off x="250920" y="1468440"/>
              <a:ext cx="8543880" cy="21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9" name="图片 62466" descr=""/>
            <p:cNvPicPr/>
            <p:nvPr/>
          </p:nvPicPr>
          <p:blipFill>
            <a:blip r:embed="rId2"/>
            <a:stretch/>
          </p:blipFill>
          <p:spPr>
            <a:xfrm>
              <a:off x="838080" y="3787560"/>
              <a:ext cx="7953480" cy="1009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0" name="图片 61441" descr=""/>
          <p:cNvPicPr/>
          <p:nvPr/>
        </p:nvPicPr>
        <p:blipFill>
          <a:blip r:embed="rId1"/>
          <a:stretch/>
        </p:blipFill>
        <p:spPr>
          <a:xfrm>
            <a:off x="561960" y="1562040"/>
            <a:ext cx="8020080" cy="373392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1" descr=""/>
          <p:cNvPicPr/>
          <p:nvPr/>
        </p:nvPicPr>
        <p:blipFill>
          <a:blip r:embed="rId2"/>
          <a:stretch/>
        </p:blipFill>
        <p:spPr>
          <a:xfrm>
            <a:off x="468360" y="1571760"/>
            <a:ext cx="4751280" cy="47628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1" descr=""/>
          <p:cNvPicPr/>
          <p:nvPr/>
        </p:nvPicPr>
        <p:blipFill>
          <a:blip r:embed="rId3"/>
          <a:stretch/>
        </p:blipFill>
        <p:spPr>
          <a:xfrm>
            <a:off x="453960" y="2133720"/>
            <a:ext cx="2016360" cy="476280"/>
          </a:xfrm>
          <a:prstGeom prst="rect">
            <a:avLst/>
          </a:prstGeom>
          <a:ln w="0">
            <a:noFill/>
          </a:ln>
        </p:spPr>
      </p:pic>
      <p:pic>
        <p:nvPicPr>
          <p:cNvPr id="1503" name="Picture 1" descr=""/>
          <p:cNvPicPr/>
          <p:nvPr/>
        </p:nvPicPr>
        <p:blipFill>
          <a:blip r:embed="rId4"/>
          <a:stretch/>
        </p:blipFill>
        <p:spPr>
          <a:xfrm>
            <a:off x="2484360" y="2176560"/>
            <a:ext cx="3527640" cy="476280"/>
          </a:xfrm>
          <a:prstGeom prst="rect">
            <a:avLst/>
          </a:prstGeom>
          <a:ln w="0">
            <a:noFill/>
          </a:ln>
        </p:spPr>
      </p:pic>
      <p:pic>
        <p:nvPicPr>
          <p:cNvPr id="1504" name="Picture 1" descr=""/>
          <p:cNvPicPr/>
          <p:nvPr/>
        </p:nvPicPr>
        <p:blipFill>
          <a:blip r:embed="rId5"/>
          <a:stretch/>
        </p:blipFill>
        <p:spPr>
          <a:xfrm>
            <a:off x="6012000" y="2147760"/>
            <a:ext cx="2305080" cy="476280"/>
          </a:xfrm>
          <a:prstGeom prst="rect">
            <a:avLst/>
          </a:prstGeom>
          <a:ln w="0">
            <a:noFill/>
          </a:ln>
        </p:spPr>
      </p:pic>
      <p:pic>
        <p:nvPicPr>
          <p:cNvPr id="1505" name="Picture 1" descr=""/>
          <p:cNvPicPr/>
          <p:nvPr/>
        </p:nvPicPr>
        <p:blipFill>
          <a:blip r:embed="rId6"/>
          <a:stretch/>
        </p:blipFill>
        <p:spPr>
          <a:xfrm>
            <a:off x="423720" y="2881440"/>
            <a:ext cx="2016360" cy="476280"/>
          </a:xfrm>
          <a:prstGeom prst="rect">
            <a:avLst/>
          </a:prstGeom>
          <a:ln w="0">
            <a:noFill/>
          </a:ln>
        </p:spPr>
      </p:pic>
      <p:pic>
        <p:nvPicPr>
          <p:cNvPr id="1506" name="Picture 1" descr=""/>
          <p:cNvPicPr/>
          <p:nvPr/>
        </p:nvPicPr>
        <p:blipFill>
          <a:blip r:embed="rId7"/>
          <a:stretch/>
        </p:blipFill>
        <p:spPr>
          <a:xfrm>
            <a:off x="2498760" y="2895480"/>
            <a:ext cx="3456000" cy="476280"/>
          </a:xfrm>
          <a:prstGeom prst="rect">
            <a:avLst/>
          </a:prstGeom>
          <a:ln w="0">
            <a:noFill/>
          </a:ln>
        </p:spPr>
      </p:pic>
      <p:pic>
        <p:nvPicPr>
          <p:cNvPr id="1507" name="Picture 1" descr=""/>
          <p:cNvPicPr/>
          <p:nvPr/>
        </p:nvPicPr>
        <p:blipFill>
          <a:blip r:embed="rId8"/>
          <a:stretch/>
        </p:blipFill>
        <p:spPr>
          <a:xfrm>
            <a:off x="5997600" y="2795760"/>
            <a:ext cx="2305080" cy="704520"/>
          </a:xfrm>
          <a:prstGeom prst="rect">
            <a:avLst/>
          </a:prstGeom>
          <a:ln w="0">
            <a:noFill/>
          </a:ln>
        </p:spPr>
      </p:pic>
      <p:pic>
        <p:nvPicPr>
          <p:cNvPr id="1508" name="Picture 1" descr=""/>
          <p:cNvPicPr/>
          <p:nvPr/>
        </p:nvPicPr>
        <p:blipFill>
          <a:blip r:embed="rId9"/>
          <a:stretch/>
        </p:blipFill>
        <p:spPr>
          <a:xfrm>
            <a:off x="611280" y="3659040"/>
            <a:ext cx="2016000" cy="476280"/>
          </a:xfrm>
          <a:prstGeom prst="rect">
            <a:avLst/>
          </a:prstGeom>
          <a:ln w="0">
            <a:noFill/>
          </a:ln>
        </p:spPr>
      </p:pic>
      <p:pic>
        <p:nvPicPr>
          <p:cNvPr id="1509" name="Picture 1" descr=""/>
          <p:cNvPicPr/>
          <p:nvPr/>
        </p:nvPicPr>
        <p:blipFill>
          <a:blip r:embed="rId10"/>
          <a:stretch/>
        </p:blipFill>
        <p:spPr>
          <a:xfrm>
            <a:off x="2627280" y="3659040"/>
            <a:ext cx="3240000" cy="476280"/>
          </a:xfrm>
          <a:prstGeom prst="rect">
            <a:avLst/>
          </a:prstGeom>
          <a:ln w="0">
            <a:noFill/>
          </a:ln>
        </p:spPr>
      </p:pic>
      <p:pic>
        <p:nvPicPr>
          <p:cNvPr id="1510" name="Picture 1" descr=""/>
          <p:cNvPicPr/>
          <p:nvPr/>
        </p:nvPicPr>
        <p:blipFill>
          <a:blip r:embed="rId11"/>
          <a:stretch/>
        </p:blipFill>
        <p:spPr>
          <a:xfrm>
            <a:off x="539640" y="4221000"/>
            <a:ext cx="8064720" cy="476280"/>
          </a:xfrm>
          <a:prstGeom prst="rect">
            <a:avLst/>
          </a:prstGeom>
          <a:ln w="0">
            <a:noFill/>
          </a:ln>
        </p:spPr>
      </p:pic>
      <p:pic>
        <p:nvPicPr>
          <p:cNvPr id="1511" name="Picture 1" descr=""/>
          <p:cNvPicPr/>
          <p:nvPr/>
        </p:nvPicPr>
        <p:blipFill>
          <a:blip r:embed="rId12"/>
          <a:stretch/>
        </p:blipFill>
        <p:spPr>
          <a:xfrm>
            <a:off x="439560" y="4811760"/>
            <a:ext cx="935280" cy="476280"/>
          </a:xfrm>
          <a:prstGeom prst="rect">
            <a:avLst/>
          </a:prstGeom>
          <a:ln w="0">
            <a:noFill/>
          </a:ln>
        </p:spPr>
      </p:pic>
      <p:pic>
        <p:nvPicPr>
          <p:cNvPr id="1512" name="Picture 1" descr=""/>
          <p:cNvPicPr/>
          <p:nvPr/>
        </p:nvPicPr>
        <p:blipFill>
          <a:blip r:embed="rId13"/>
          <a:stretch/>
        </p:blipFill>
        <p:spPr>
          <a:xfrm>
            <a:off x="1403280" y="4811760"/>
            <a:ext cx="2592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1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6" dur="1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3" name="图片 70657" descr=""/>
          <p:cNvPicPr/>
          <p:nvPr/>
        </p:nvPicPr>
        <p:blipFill>
          <a:blip r:embed="rId1"/>
          <a:stretch/>
        </p:blipFill>
        <p:spPr>
          <a:xfrm>
            <a:off x="266760" y="674640"/>
            <a:ext cx="861048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60428" descr=""/>
          <p:cNvPicPr/>
          <p:nvPr/>
        </p:nvPicPr>
        <p:blipFill>
          <a:blip r:embed="rId1"/>
          <a:stretch/>
        </p:blipFill>
        <p:spPr>
          <a:xfrm>
            <a:off x="228600" y="376200"/>
            <a:ext cx="8686800" cy="6105600"/>
          </a:xfrm>
          <a:prstGeom prst="rect">
            <a:avLst/>
          </a:prstGeom>
          <a:ln w="0">
            <a:noFill/>
          </a:ln>
        </p:spPr>
      </p:pic>
      <p:pic>
        <p:nvPicPr>
          <p:cNvPr id="1434" name="Picture 1" descr=""/>
          <p:cNvPicPr/>
          <p:nvPr/>
        </p:nvPicPr>
        <p:blipFill>
          <a:blip r:embed="rId2"/>
          <a:stretch/>
        </p:blipFill>
        <p:spPr>
          <a:xfrm>
            <a:off x="8101080" y="836640"/>
            <a:ext cx="503280" cy="476280"/>
          </a:xfrm>
          <a:prstGeom prst="rect">
            <a:avLst/>
          </a:prstGeom>
          <a:ln w="0">
            <a:noFill/>
          </a:ln>
        </p:spPr>
      </p:pic>
      <p:pic>
        <p:nvPicPr>
          <p:cNvPr id="1435" name="Picture 1" descr=""/>
          <p:cNvPicPr/>
          <p:nvPr/>
        </p:nvPicPr>
        <p:blipFill>
          <a:blip r:embed="rId3"/>
          <a:stretch/>
        </p:blipFill>
        <p:spPr>
          <a:xfrm>
            <a:off x="8101080" y="5445000"/>
            <a:ext cx="5032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4" name="图片 71681" descr=""/>
          <p:cNvPicPr/>
          <p:nvPr/>
        </p:nvPicPr>
        <p:blipFill>
          <a:blip r:embed="rId1"/>
          <a:stretch/>
        </p:blipFill>
        <p:spPr>
          <a:xfrm>
            <a:off x="514440" y="1204920"/>
            <a:ext cx="81151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5" name="图片 72705" descr=""/>
          <p:cNvPicPr/>
          <p:nvPr/>
        </p:nvPicPr>
        <p:blipFill>
          <a:blip r:embed="rId1"/>
          <a:stretch/>
        </p:blipFill>
        <p:spPr>
          <a:xfrm>
            <a:off x="485640" y="1481040"/>
            <a:ext cx="8172720" cy="3895920"/>
          </a:xfrm>
          <a:prstGeom prst="rect">
            <a:avLst/>
          </a:prstGeom>
          <a:ln w="0">
            <a:noFill/>
          </a:ln>
        </p:spPr>
      </p:pic>
      <p:pic>
        <p:nvPicPr>
          <p:cNvPr id="1516" name="Picture 1" descr=""/>
          <p:cNvPicPr/>
          <p:nvPr/>
        </p:nvPicPr>
        <p:blipFill>
          <a:blip r:embed="rId2"/>
          <a:stretch/>
        </p:blipFill>
        <p:spPr>
          <a:xfrm>
            <a:off x="468360" y="1455840"/>
            <a:ext cx="8064360" cy="476280"/>
          </a:xfrm>
          <a:prstGeom prst="rect">
            <a:avLst/>
          </a:prstGeom>
          <a:ln w="0">
            <a:noFill/>
          </a:ln>
        </p:spPr>
      </p:pic>
      <p:pic>
        <p:nvPicPr>
          <p:cNvPr id="1517" name="Picture 1" descr=""/>
          <p:cNvPicPr/>
          <p:nvPr/>
        </p:nvPicPr>
        <p:blipFill>
          <a:blip r:embed="rId3"/>
          <a:stretch/>
        </p:blipFill>
        <p:spPr>
          <a:xfrm>
            <a:off x="468360" y="2075040"/>
            <a:ext cx="8064360" cy="777600"/>
          </a:xfrm>
          <a:prstGeom prst="rect">
            <a:avLst/>
          </a:prstGeom>
          <a:ln w="0">
            <a:noFill/>
          </a:ln>
        </p:spPr>
      </p:pic>
      <p:pic>
        <p:nvPicPr>
          <p:cNvPr id="1518" name="Picture 1" descr=""/>
          <p:cNvPicPr/>
          <p:nvPr/>
        </p:nvPicPr>
        <p:blipFill>
          <a:blip r:embed="rId4"/>
          <a:stretch/>
        </p:blipFill>
        <p:spPr>
          <a:xfrm>
            <a:off x="395280" y="2967120"/>
            <a:ext cx="6480360" cy="476280"/>
          </a:xfrm>
          <a:prstGeom prst="rect">
            <a:avLst/>
          </a:prstGeom>
          <a:ln w="0">
            <a:noFill/>
          </a:ln>
        </p:spPr>
      </p:pic>
      <p:pic>
        <p:nvPicPr>
          <p:cNvPr id="1519" name="Picture 1" descr=""/>
          <p:cNvPicPr/>
          <p:nvPr/>
        </p:nvPicPr>
        <p:blipFill>
          <a:blip r:embed="rId5"/>
          <a:stretch/>
        </p:blipFill>
        <p:spPr>
          <a:xfrm>
            <a:off x="6934320" y="2997360"/>
            <a:ext cx="1670040" cy="475920"/>
          </a:xfrm>
          <a:prstGeom prst="rect">
            <a:avLst/>
          </a:prstGeom>
          <a:ln w="0">
            <a:noFill/>
          </a:ln>
        </p:spPr>
      </p:pic>
      <p:pic>
        <p:nvPicPr>
          <p:cNvPr id="1520" name="Picture 1" descr=""/>
          <p:cNvPicPr/>
          <p:nvPr/>
        </p:nvPicPr>
        <p:blipFill>
          <a:blip r:embed="rId6"/>
          <a:stretch/>
        </p:blipFill>
        <p:spPr>
          <a:xfrm>
            <a:off x="395280" y="3645000"/>
            <a:ext cx="3960720" cy="792000"/>
          </a:xfrm>
          <a:prstGeom prst="rect">
            <a:avLst/>
          </a:prstGeom>
          <a:ln w="0">
            <a:noFill/>
          </a:ln>
        </p:spPr>
      </p:pic>
      <p:pic>
        <p:nvPicPr>
          <p:cNvPr id="1521" name="Picture 1" descr=""/>
          <p:cNvPicPr/>
          <p:nvPr/>
        </p:nvPicPr>
        <p:blipFill>
          <a:blip r:embed="rId7"/>
          <a:stretch/>
        </p:blipFill>
        <p:spPr>
          <a:xfrm>
            <a:off x="4370400" y="3645000"/>
            <a:ext cx="4233960" cy="792000"/>
          </a:xfrm>
          <a:prstGeom prst="rect">
            <a:avLst/>
          </a:prstGeom>
          <a:ln w="0">
            <a:noFill/>
          </a:ln>
        </p:spPr>
      </p:pic>
      <p:pic>
        <p:nvPicPr>
          <p:cNvPr id="1522" name="Picture 1" descr=""/>
          <p:cNvPicPr/>
          <p:nvPr/>
        </p:nvPicPr>
        <p:blipFill>
          <a:blip r:embed="rId8"/>
          <a:stretch/>
        </p:blipFill>
        <p:spPr>
          <a:xfrm>
            <a:off x="468360" y="4724280"/>
            <a:ext cx="1511280" cy="476280"/>
          </a:xfrm>
          <a:prstGeom prst="rect">
            <a:avLst/>
          </a:prstGeom>
          <a:ln w="0">
            <a:noFill/>
          </a:ln>
        </p:spPr>
      </p:pic>
      <p:pic>
        <p:nvPicPr>
          <p:cNvPr id="1523" name="Picture 1" descr=""/>
          <p:cNvPicPr/>
          <p:nvPr/>
        </p:nvPicPr>
        <p:blipFill>
          <a:blip r:embed="rId9"/>
          <a:stretch/>
        </p:blipFill>
        <p:spPr>
          <a:xfrm>
            <a:off x="1979640" y="4537080"/>
            <a:ext cx="6480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3" dur="10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8" dur="10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3" dur="10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8" dur="10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2" dur="1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7" dur="10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1" dur="10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6" dur="10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4" name="图片 73729" descr=""/>
          <p:cNvPicPr/>
          <p:nvPr/>
        </p:nvPicPr>
        <p:blipFill>
          <a:blip r:embed="rId1"/>
          <a:stretch/>
        </p:blipFill>
        <p:spPr>
          <a:xfrm>
            <a:off x="542880" y="685800"/>
            <a:ext cx="8058240" cy="5486400"/>
          </a:xfrm>
          <a:prstGeom prst="rect">
            <a:avLst/>
          </a:prstGeom>
          <a:ln w="0">
            <a:noFill/>
          </a:ln>
        </p:spPr>
      </p:pic>
      <p:pic>
        <p:nvPicPr>
          <p:cNvPr id="1525" name="Picture 1" descr=""/>
          <p:cNvPicPr/>
          <p:nvPr/>
        </p:nvPicPr>
        <p:blipFill>
          <a:blip r:embed="rId2"/>
          <a:stretch/>
        </p:blipFill>
        <p:spPr>
          <a:xfrm>
            <a:off x="468360" y="735120"/>
            <a:ext cx="7848720" cy="476280"/>
          </a:xfrm>
          <a:prstGeom prst="rect">
            <a:avLst/>
          </a:prstGeom>
          <a:ln w="0">
            <a:noFill/>
          </a:ln>
        </p:spPr>
      </p:pic>
      <p:pic>
        <p:nvPicPr>
          <p:cNvPr id="1526" name="Picture 1" descr=""/>
          <p:cNvPicPr/>
          <p:nvPr/>
        </p:nvPicPr>
        <p:blipFill>
          <a:blip r:embed="rId3"/>
          <a:stretch/>
        </p:blipFill>
        <p:spPr>
          <a:xfrm>
            <a:off x="395280" y="1341360"/>
            <a:ext cx="7848720" cy="863640"/>
          </a:xfrm>
          <a:prstGeom prst="rect">
            <a:avLst/>
          </a:prstGeom>
          <a:ln w="0">
            <a:noFill/>
          </a:ln>
        </p:spPr>
      </p:pic>
      <p:pic>
        <p:nvPicPr>
          <p:cNvPr id="1527" name="Picture 1" descr=""/>
          <p:cNvPicPr/>
          <p:nvPr/>
        </p:nvPicPr>
        <p:blipFill>
          <a:blip r:embed="rId4"/>
          <a:stretch/>
        </p:blipFill>
        <p:spPr>
          <a:xfrm>
            <a:off x="295200" y="2233440"/>
            <a:ext cx="6624720" cy="476280"/>
          </a:xfrm>
          <a:prstGeom prst="rect">
            <a:avLst/>
          </a:prstGeom>
          <a:ln w="0">
            <a:noFill/>
          </a:ln>
        </p:spPr>
      </p:pic>
      <p:pic>
        <p:nvPicPr>
          <p:cNvPr id="1528" name="Picture 1" descr=""/>
          <p:cNvPicPr/>
          <p:nvPr/>
        </p:nvPicPr>
        <p:blipFill>
          <a:blip r:embed="rId5"/>
          <a:stretch/>
        </p:blipFill>
        <p:spPr>
          <a:xfrm>
            <a:off x="6948360" y="2276640"/>
            <a:ext cx="1800360" cy="475920"/>
          </a:xfrm>
          <a:prstGeom prst="rect">
            <a:avLst/>
          </a:prstGeom>
          <a:ln w="0">
            <a:noFill/>
          </a:ln>
        </p:spPr>
      </p:pic>
      <p:pic>
        <p:nvPicPr>
          <p:cNvPr id="1529" name="Picture 1" descr=""/>
          <p:cNvPicPr/>
          <p:nvPr/>
        </p:nvPicPr>
        <p:blipFill>
          <a:blip r:embed="rId6"/>
          <a:stretch/>
        </p:blipFill>
        <p:spPr>
          <a:xfrm>
            <a:off x="395280" y="2881440"/>
            <a:ext cx="3960720" cy="834840"/>
          </a:xfrm>
          <a:prstGeom prst="rect">
            <a:avLst/>
          </a:prstGeom>
          <a:ln w="0">
            <a:noFill/>
          </a:ln>
        </p:spPr>
      </p:pic>
      <p:pic>
        <p:nvPicPr>
          <p:cNvPr id="1530" name="Picture 1" descr=""/>
          <p:cNvPicPr/>
          <p:nvPr/>
        </p:nvPicPr>
        <p:blipFill>
          <a:blip r:embed="rId7"/>
          <a:stretch/>
        </p:blipFill>
        <p:spPr>
          <a:xfrm>
            <a:off x="4398840" y="2924280"/>
            <a:ext cx="4349880" cy="720720"/>
          </a:xfrm>
          <a:prstGeom prst="rect">
            <a:avLst/>
          </a:prstGeom>
          <a:ln w="0">
            <a:noFill/>
          </a:ln>
        </p:spPr>
      </p:pic>
      <p:pic>
        <p:nvPicPr>
          <p:cNvPr id="1531" name="Picture 1" descr=""/>
          <p:cNvPicPr/>
          <p:nvPr/>
        </p:nvPicPr>
        <p:blipFill>
          <a:blip r:embed="rId8"/>
          <a:stretch/>
        </p:blipFill>
        <p:spPr>
          <a:xfrm>
            <a:off x="468360" y="4005360"/>
            <a:ext cx="1511280" cy="476280"/>
          </a:xfrm>
          <a:prstGeom prst="rect">
            <a:avLst/>
          </a:prstGeom>
          <a:ln w="0">
            <a:noFill/>
          </a:ln>
        </p:spPr>
      </p:pic>
      <p:pic>
        <p:nvPicPr>
          <p:cNvPr id="1532" name="Picture 1" descr=""/>
          <p:cNvPicPr/>
          <p:nvPr/>
        </p:nvPicPr>
        <p:blipFill>
          <a:blip r:embed="rId9"/>
          <a:stretch/>
        </p:blipFill>
        <p:spPr>
          <a:xfrm>
            <a:off x="1979640" y="3875040"/>
            <a:ext cx="4968720" cy="720720"/>
          </a:xfrm>
          <a:prstGeom prst="rect">
            <a:avLst/>
          </a:prstGeom>
          <a:ln w="0">
            <a:noFill/>
          </a:ln>
        </p:spPr>
      </p:pic>
      <p:pic>
        <p:nvPicPr>
          <p:cNvPr id="1533" name="Picture 1" descr=""/>
          <p:cNvPicPr/>
          <p:nvPr/>
        </p:nvPicPr>
        <p:blipFill>
          <a:blip r:embed="rId10"/>
          <a:stretch/>
        </p:blipFill>
        <p:spPr>
          <a:xfrm>
            <a:off x="6948360" y="3890880"/>
            <a:ext cx="1944720" cy="720720"/>
          </a:xfrm>
          <a:prstGeom prst="rect">
            <a:avLst/>
          </a:prstGeom>
          <a:ln w="0">
            <a:noFill/>
          </a:ln>
        </p:spPr>
      </p:pic>
      <p:pic>
        <p:nvPicPr>
          <p:cNvPr id="1534" name="Picture 1" descr=""/>
          <p:cNvPicPr/>
          <p:nvPr/>
        </p:nvPicPr>
        <p:blipFill>
          <a:blip r:embed="rId11"/>
          <a:stretch/>
        </p:blipFill>
        <p:spPr>
          <a:xfrm>
            <a:off x="539640" y="4797360"/>
            <a:ext cx="1800360" cy="476280"/>
          </a:xfrm>
          <a:prstGeom prst="rect">
            <a:avLst/>
          </a:prstGeom>
          <a:ln w="0">
            <a:noFill/>
          </a:ln>
        </p:spPr>
      </p:pic>
      <p:pic>
        <p:nvPicPr>
          <p:cNvPr id="1535" name="Picture 1" descr=""/>
          <p:cNvPicPr/>
          <p:nvPr/>
        </p:nvPicPr>
        <p:blipFill>
          <a:blip r:embed="rId12"/>
          <a:stretch/>
        </p:blipFill>
        <p:spPr>
          <a:xfrm>
            <a:off x="539640" y="5373720"/>
            <a:ext cx="82803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3" dur="10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8" dur="10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3" dur="10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8" dur="10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2" dur="10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7" dur="1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1" dur="10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6" dur="10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1" dur="10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5" dur="1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0" dur="10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6" name="图片 59410" descr=""/>
          <p:cNvPicPr/>
          <p:nvPr/>
        </p:nvPicPr>
        <p:blipFill>
          <a:blip r:embed="rId1"/>
          <a:stretch/>
        </p:blipFill>
        <p:spPr>
          <a:xfrm>
            <a:off x="252360" y="692280"/>
            <a:ext cx="8639280" cy="3276360"/>
          </a:xfrm>
          <a:prstGeom prst="rect">
            <a:avLst/>
          </a:prstGeom>
          <a:ln w="0">
            <a:noFill/>
          </a:ln>
        </p:spPr>
      </p:pic>
      <p:pic>
        <p:nvPicPr>
          <p:cNvPr id="1437" name="图片 59411" descr=""/>
          <p:cNvPicPr/>
          <p:nvPr/>
        </p:nvPicPr>
        <p:blipFill>
          <a:blip r:embed="rId2"/>
          <a:stretch/>
        </p:blipFill>
        <p:spPr>
          <a:xfrm>
            <a:off x="2556000" y="4078440"/>
            <a:ext cx="4047840" cy="2590560"/>
          </a:xfrm>
          <a:prstGeom prst="rect">
            <a:avLst/>
          </a:prstGeom>
          <a:ln w="0">
            <a:noFill/>
          </a:ln>
        </p:spPr>
      </p:pic>
      <p:pic>
        <p:nvPicPr>
          <p:cNvPr id="1438" name="Picture 1" descr=""/>
          <p:cNvPicPr/>
          <p:nvPr/>
        </p:nvPicPr>
        <p:blipFill>
          <a:blip r:embed="rId3"/>
          <a:stretch/>
        </p:blipFill>
        <p:spPr>
          <a:xfrm>
            <a:off x="8101080" y="2924280"/>
            <a:ext cx="5032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9" name="图片 58373" descr=""/>
          <p:cNvPicPr/>
          <p:nvPr/>
        </p:nvPicPr>
        <p:blipFill>
          <a:blip r:embed="rId1"/>
          <a:stretch/>
        </p:blipFill>
        <p:spPr>
          <a:xfrm>
            <a:off x="3132000" y="325440"/>
            <a:ext cx="2934000" cy="2743200"/>
          </a:xfrm>
          <a:prstGeom prst="rect">
            <a:avLst/>
          </a:prstGeom>
          <a:ln w="0">
            <a:noFill/>
          </a:ln>
        </p:spPr>
      </p:pic>
      <p:pic>
        <p:nvPicPr>
          <p:cNvPr id="1440" name="图片 58374" descr=""/>
          <p:cNvPicPr/>
          <p:nvPr/>
        </p:nvPicPr>
        <p:blipFill>
          <a:blip r:embed="rId2"/>
          <a:stretch/>
        </p:blipFill>
        <p:spPr>
          <a:xfrm>
            <a:off x="324000" y="3284640"/>
            <a:ext cx="8591400" cy="3247920"/>
          </a:xfrm>
          <a:prstGeom prst="rect">
            <a:avLst/>
          </a:prstGeom>
          <a:ln w="0">
            <a:noFill/>
          </a:ln>
        </p:spPr>
      </p:pic>
      <p:pic>
        <p:nvPicPr>
          <p:cNvPr id="1441" name="Picture 1" descr=""/>
          <p:cNvPicPr/>
          <p:nvPr/>
        </p:nvPicPr>
        <p:blipFill>
          <a:blip r:embed="rId3"/>
          <a:stretch/>
        </p:blipFill>
        <p:spPr>
          <a:xfrm>
            <a:off x="8028000" y="3789360"/>
            <a:ext cx="503280" cy="476280"/>
          </a:xfrm>
          <a:prstGeom prst="rect">
            <a:avLst/>
          </a:prstGeom>
          <a:ln w="0">
            <a:noFill/>
          </a:ln>
        </p:spPr>
      </p:pic>
      <p:pic>
        <p:nvPicPr>
          <p:cNvPr id="1442" name="Picture 1" descr=""/>
          <p:cNvPicPr/>
          <p:nvPr/>
        </p:nvPicPr>
        <p:blipFill>
          <a:blip r:embed="rId4"/>
          <a:stretch/>
        </p:blipFill>
        <p:spPr>
          <a:xfrm>
            <a:off x="8028000" y="5516640"/>
            <a:ext cx="5032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3" name="图片 57352" descr=""/>
          <p:cNvPicPr/>
          <p:nvPr/>
        </p:nvPicPr>
        <p:blipFill>
          <a:blip r:embed="rId1"/>
          <a:stretch/>
        </p:blipFill>
        <p:spPr>
          <a:xfrm>
            <a:off x="237960" y="1141560"/>
            <a:ext cx="8668080" cy="2143080"/>
          </a:xfrm>
          <a:prstGeom prst="rect">
            <a:avLst/>
          </a:prstGeom>
          <a:ln w="0">
            <a:noFill/>
          </a:ln>
        </p:spPr>
      </p:pic>
      <p:pic>
        <p:nvPicPr>
          <p:cNvPr id="1444" name="图片 57353" descr=""/>
          <p:cNvPicPr/>
          <p:nvPr/>
        </p:nvPicPr>
        <p:blipFill>
          <a:blip r:embed="rId2"/>
          <a:stretch/>
        </p:blipFill>
        <p:spPr>
          <a:xfrm>
            <a:off x="2771640" y="3645000"/>
            <a:ext cx="3791160" cy="2466720"/>
          </a:xfrm>
          <a:prstGeom prst="rect">
            <a:avLst/>
          </a:prstGeom>
          <a:ln w="0">
            <a:noFill/>
          </a:ln>
        </p:spPr>
      </p:pic>
      <p:pic>
        <p:nvPicPr>
          <p:cNvPr id="1445" name="Picture 1" descr=""/>
          <p:cNvPicPr/>
          <p:nvPr/>
        </p:nvPicPr>
        <p:blipFill>
          <a:blip r:embed="rId3"/>
          <a:stretch/>
        </p:blipFill>
        <p:spPr>
          <a:xfrm>
            <a:off x="8028000" y="2276640"/>
            <a:ext cx="503280" cy="47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6" name="图片 56324" descr=""/>
          <p:cNvPicPr/>
          <p:nvPr/>
        </p:nvPicPr>
        <p:blipFill>
          <a:blip r:embed="rId1"/>
          <a:stretch/>
        </p:blipFill>
        <p:spPr>
          <a:xfrm>
            <a:off x="257040" y="2333520"/>
            <a:ext cx="8629920" cy="2190960"/>
          </a:xfrm>
          <a:prstGeom prst="rect">
            <a:avLst/>
          </a:prstGeom>
          <a:ln w="0">
            <a:noFill/>
          </a:ln>
        </p:spPr>
      </p:pic>
      <p:pic>
        <p:nvPicPr>
          <p:cNvPr id="1447" name="Picture 1" descr=""/>
          <p:cNvPicPr/>
          <p:nvPr/>
        </p:nvPicPr>
        <p:blipFill>
          <a:blip r:embed="rId2"/>
          <a:stretch/>
        </p:blipFill>
        <p:spPr>
          <a:xfrm>
            <a:off x="8028000" y="2924280"/>
            <a:ext cx="5032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图片 55302" descr=""/>
          <p:cNvPicPr/>
          <p:nvPr/>
        </p:nvPicPr>
        <p:blipFill>
          <a:blip r:embed="rId1"/>
          <a:stretch/>
        </p:blipFill>
        <p:spPr>
          <a:xfrm>
            <a:off x="281160" y="1380960"/>
            <a:ext cx="8581680" cy="4096080"/>
          </a:xfrm>
          <a:prstGeom prst="rect">
            <a:avLst/>
          </a:prstGeom>
          <a:ln w="0">
            <a:noFill/>
          </a:ln>
        </p:spPr>
      </p:pic>
      <p:pic>
        <p:nvPicPr>
          <p:cNvPr id="1449" name="图片 55301" descr=""/>
          <p:cNvPicPr/>
          <p:nvPr/>
        </p:nvPicPr>
        <p:blipFill>
          <a:blip r:embed="rId2"/>
          <a:stretch/>
        </p:blipFill>
        <p:spPr>
          <a:xfrm>
            <a:off x="5724360" y="3213000"/>
            <a:ext cx="2638440" cy="1828800"/>
          </a:xfrm>
          <a:prstGeom prst="rect">
            <a:avLst/>
          </a:prstGeom>
          <a:ln w="0">
            <a:noFill/>
          </a:ln>
        </p:spPr>
      </p:pic>
      <p:pic>
        <p:nvPicPr>
          <p:cNvPr id="1450" name="Picture 1" descr=""/>
          <p:cNvPicPr/>
          <p:nvPr/>
        </p:nvPicPr>
        <p:blipFill>
          <a:blip r:embed="rId3"/>
          <a:stretch/>
        </p:blipFill>
        <p:spPr>
          <a:xfrm>
            <a:off x="8028000" y="1916280"/>
            <a:ext cx="503280" cy="47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图片 54276" descr=""/>
          <p:cNvPicPr/>
          <p:nvPr/>
        </p:nvPicPr>
        <p:blipFill>
          <a:blip r:embed="rId1"/>
          <a:stretch/>
        </p:blipFill>
        <p:spPr>
          <a:xfrm>
            <a:off x="290520" y="1219320"/>
            <a:ext cx="8562960" cy="4419360"/>
          </a:xfrm>
          <a:prstGeom prst="rect">
            <a:avLst/>
          </a:prstGeom>
          <a:ln w="0">
            <a:noFill/>
          </a:ln>
        </p:spPr>
      </p:pic>
      <p:pic>
        <p:nvPicPr>
          <p:cNvPr id="1452" name="Picture 1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86421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3" name="图片 52231" descr=""/>
          <p:cNvPicPr/>
          <p:nvPr/>
        </p:nvPicPr>
        <p:blipFill>
          <a:blip r:embed="rId1"/>
          <a:stretch/>
        </p:blipFill>
        <p:spPr>
          <a:xfrm>
            <a:off x="363600" y="189000"/>
            <a:ext cx="8601120" cy="6153120"/>
          </a:xfrm>
          <a:prstGeom prst="rect">
            <a:avLst/>
          </a:prstGeom>
          <a:ln w="0">
            <a:noFill/>
          </a:ln>
        </p:spPr>
      </p:pic>
      <p:pic>
        <p:nvPicPr>
          <p:cNvPr id="1454" name="Picture 1" descr=""/>
          <p:cNvPicPr/>
          <p:nvPr/>
        </p:nvPicPr>
        <p:blipFill>
          <a:blip r:embed="rId2"/>
          <a:stretch/>
        </p:blipFill>
        <p:spPr>
          <a:xfrm>
            <a:off x="4211640" y="178740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1455" name="Picture 1" descr=""/>
          <p:cNvPicPr/>
          <p:nvPr/>
        </p:nvPicPr>
        <p:blipFill>
          <a:blip r:embed="rId3"/>
          <a:stretch/>
        </p:blipFill>
        <p:spPr>
          <a:xfrm>
            <a:off x="1476360" y="350028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1456" name="Picture 1" descr=""/>
          <p:cNvPicPr/>
          <p:nvPr/>
        </p:nvPicPr>
        <p:blipFill>
          <a:blip r:embed="rId4"/>
          <a:stretch/>
        </p:blipFill>
        <p:spPr>
          <a:xfrm>
            <a:off x="2411280" y="4653000"/>
            <a:ext cx="648000" cy="476280"/>
          </a:xfrm>
          <a:prstGeom prst="rect">
            <a:avLst/>
          </a:prstGeom>
          <a:ln w="0">
            <a:noFill/>
          </a:ln>
        </p:spPr>
      </p:pic>
      <p:pic>
        <p:nvPicPr>
          <p:cNvPr id="1457" name="Picture 1" descr=""/>
          <p:cNvPicPr/>
          <p:nvPr/>
        </p:nvPicPr>
        <p:blipFill>
          <a:blip r:embed="rId5"/>
          <a:stretch/>
        </p:blipFill>
        <p:spPr>
          <a:xfrm>
            <a:off x="3132000" y="5805360"/>
            <a:ext cx="9352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2T10:15:06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